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474-8408-4942-A20F-D0DC8866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0F5-4131-404C-BA90-4995C12C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B70-0B62-4831-AB2A-94B6B289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365-7DB5-4B33-9C06-F71C74FF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BA1-F3A0-4761-8B9F-BDE3317A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8BE-0A9E-4546-A2A7-C85F515F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D5D-11E6-422D-BC2C-7552E48E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83B-DD55-4F0F-A41F-D404D1DB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7C3-0D10-4807-97B7-8923C4AE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64D-ED71-4ECD-A5B5-E87E455F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15A-F3CA-477F-A9A9-CFDD0735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6D7-261F-4201-8581-BE03B32D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A312-129F-4A38-8A03-21762A21D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The Himalaya Mounta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by Kruffy"/>
              </a:rPr>
              <a:t>By:  Ms. Rus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by Kruffy"/>
              </a:rPr>
              <a:t>ANCIENT INDIA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by Kruffy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Him2"/>
          <p:cNvPicPr/>
          <p:nvPr/>
        </p:nvPicPr>
        <p:blipFill>
          <a:blip r:embed="rId2"/>
          <a:stretch/>
        </p:blipFill>
        <p:spPr>
          <a:xfrm>
            <a:off x="380880" y="1752480"/>
            <a:ext cx="2505240" cy="160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himalayas"/>
          <p:cNvPicPr/>
          <p:nvPr/>
        </p:nvPicPr>
        <p:blipFill>
          <a:blip r:embed="rId3"/>
          <a:stretch/>
        </p:blipFill>
        <p:spPr>
          <a:xfrm>
            <a:off x="2133720" y="3863880"/>
            <a:ext cx="2438280" cy="1889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5410080" y="1905120"/>
            <a:ext cx="335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8:00:19Z</dcterms:created>
  <dc:creator>MCPS</dc:creator>
  <dc:description/>
  <dc:language>en-US</dc:language>
  <cp:lastModifiedBy>cmrussell</cp:lastModifiedBy>
  <dcterms:modified xsi:type="dcterms:W3CDTF">2012-02-09T15:12:06Z</dcterms:modified>
  <cp:revision>6</cp:revision>
  <dc:subject/>
  <dc:title>Slide 1</dc:title>
</cp:coreProperties>
</file>